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78B-ACFF-408D-B9BE-EF71DA66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1CB-7946-408D-AFF2-6EAAB80C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603-BC99-4F7C-8364-27054041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A4F-33A8-45EE-9D03-C68A3D68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5062-200A-4094-990A-42C2D105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DB8E-A786-4907-8756-1609C63B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853F-1D05-4F46-91F2-25FB4B74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98D4-D662-4828-9251-23085148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8520-0892-450F-914E-3D74350A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4A6A-A9BE-4EC9-8DFC-428070E4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1013-69AF-4CD6-9E25-A064D77A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705-CD04-4F54-89AD-71F07A44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41A9-2776-4EC4-8A58-8038E326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91CA-ECE4-4C37-BC86-A34E331F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B9D9-33E2-4249-878B-F3AF8525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23D3-C5D0-4457-8CF6-6896E617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FDBC-73B5-49C3-A8A8-53439BB9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7D9A8-612B-4145-B580-338A4032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42D9-F530-4085-965B-EAB7A8C5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75FE-D89F-4E44-966F-E0717763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C9CBE-3E4A-448F-96BC-AAE82FFB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B4C8F-1AF6-4C39-A9FB-0EE3A365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4DA-718A-4AE0-AB1D-73F29807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E06A-334E-4A8D-896E-6806D823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406FC-4FA9-4B03-ABA2-69CBED74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C02D-9903-4E18-B1B1-5177F611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5778A-2822-49C0-BB23-F3711FBD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E45E-A790-4F70-AB08-52805F89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40D95-5D21-4454-A2DE-B5BC5C04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61C9-467F-4CD4-B879-C9456DED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4F0BB-A338-40DE-AD8D-258E16BF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A6CF9-B37D-41DB-ABB2-C0D65E41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D8433-D5BA-4D9E-9C24-C658BC71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680-4EF1-4860-A8AE-07F222A8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8D95C-F842-46D0-A71F-68BD97E2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C3E0-B25E-4A1E-8510-96D05796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1FA95-A5E7-47EA-8F41-405B4EC2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DEFA-15CC-4F42-97BC-D447DCD4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8B42D-7751-4D28-B1B4-A7B8CEA6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663F-3642-4B8B-9088-01A4416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EFEFA-4239-4C0E-8806-333DD5AE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C2FF0-EE81-4EF2-A8C2-CC0C680D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99371-07C1-42C2-960D-43F88779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A327B-7EAA-4B71-985B-B3D14E5F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F61-5032-4783-A41D-FEFD9320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B7DF1-71E3-4E41-A2D3-B9EBEBD5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2BDE9-C16E-4A98-A2B7-FDCC1324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FE487-C7B4-44CC-9A98-A0C8850D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4AA90-3FDE-4650-BDA8-EB7F0E9B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0745F-B26E-4FCB-BB79-1C93070C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D4023-0092-4827-B48F-DD1C3559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730BA-404B-4BAA-A808-3FC41B23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0F03-074B-48E6-872E-7759563F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CB2AC-6224-487A-85F2-54E54B18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93529-A00C-417A-A64B-7D813E6F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A6C-C4BC-448C-B04E-B2282E13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B489-7A6F-4824-A502-F132F94A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D54AE-0D53-4D30-8A71-2AC7AA0E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F8752-6525-45FE-9CC6-588628E1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15BED-8F8B-44E6-8FF1-A21AA4A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246D-AA5E-45DB-A677-F3501E1B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B864E-6B1B-4F6B-B52A-F660BBE6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40651-5A13-4967-B360-7F36D46E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1B838-93F9-41A9-AA81-8C43137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38D6C-0D35-48CD-B2F2-297CBB57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09C13-0077-4C18-B829-F0FBAF9B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5AA-80B7-4D8F-8167-843E589C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8F48F-29CF-4AAE-BF11-80506906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567C1-CADB-40BD-87E8-D09FEDDF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056B1-3252-4EC8-A17D-97C2345C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957-F671-4FF8-90D4-C1F2FFDC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239-7380-458B-8DBC-8A811E9F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FC5A-7AB2-4519-AB62-5683A342719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9CB3-65AF-461B-BE89-A9C35685669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657D-805D-448C-B584-7079648F424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C3F0-E2FF-4CE5-8D81-6148EAD90F8F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A275-BC4E-4D7B-834B-55A84EC2CC8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FA56-B3A9-4750-9553-533C1935160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0ABA-5B52-4ED8-93FF-E8FB47BDC06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BFA1-DFC6-4F23-BADD-9461D5C813A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6AB3-844E-4BA2-BC0E-2647EA1C492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987F-0A82-40B3-8380-FF1B5E7791A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AA25-B2E8-46CF-AD3E-86078AE4F44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5626-70C7-4FAB-BABA-02DD88B5148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emanuel.dantas@previdencia.gov.br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9922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Calibri"/>
              </a:rPr>
              <a:t>REAJUSTAMENTO D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Calibri"/>
              </a:rPr>
              <a:t>BENEFÍCI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95160" y="2707920"/>
            <a:ext cx="97221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 reajuste dos benefícios, em 2017, foi editado pela Portaria nº 08, de 13 de janeiro de 201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623880" y="1267920"/>
            <a:ext cx="9793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Índice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 reajustamento: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6,5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imit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mínim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o salário de contribuição e salário de benefício: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$ 937,00, reajuste de 6,4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imit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máxim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o salário de contribuição e salário de benefício: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$ 5.531,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50440" y="765000"/>
            <a:ext cx="9866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FATOR DE REAJUSTE DOS BENEFÍCIOS CONCEDIDOS DE ACORDO COM AS RESPECTIVAS DATAS DE INÍCIO, APLICÁVEL A PARTIR DE JANEI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Imagem 2" descr=""/>
          <p:cNvPicPr/>
          <p:nvPr/>
        </p:nvPicPr>
        <p:blipFill>
          <a:blip r:embed="rId1"/>
          <a:stretch/>
        </p:blipFill>
        <p:spPr>
          <a:xfrm>
            <a:off x="407880" y="1484280"/>
            <a:ext cx="10009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tângulo 4"/>
          <p:cNvSpPr/>
          <p:nvPr/>
        </p:nvSpPr>
        <p:spPr>
          <a:xfrm>
            <a:off x="1631880" y="907920"/>
            <a:ext cx="86407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ABELA DE CONTRIBUIÇÃO DOS SEGURADOS EMPREGADO, EMPREGADO DOMÉSTICO E TRABALHADOR AVULSO, PARA PAGAMENTO DE REMUNERAÇÃO A PARTIR DE 1º DE JANEIRO DE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Imagem 3" descr=""/>
          <p:cNvPicPr/>
          <p:nvPr/>
        </p:nvPicPr>
        <p:blipFill>
          <a:blip r:embed="rId1"/>
          <a:stretch/>
        </p:blipFill>
        <p:spPr>
          <a:xfrm>
            <a:off x="407880" y="2565360"/>
            <a:ext cx="10009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07520" y="1773360"/>
            <a:ext cx="10728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A partir de 1º de janeiro de 2017, não terão valores inferiores a 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R$ 937,00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, os benefício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GP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enefícios Assistenciai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cargos Previdenciários da União - EP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558440" y="907920"/>
            <a:ext cx="892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Seletividad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do auxílio-reclusão e salário-famíli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salário de contribuição igual ou inferior a 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R$ 1.292,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otas do salário famíli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 - Para o segurado com remuneração mensal não superi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859,88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R$ 44,09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I - Para o segurado com remuneração mensal superi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859,88 e igual ou inferior 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1.292,43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R$ 31,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92240" y="26028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uito obrigad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Emanuel de Araújo Dan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retor do Regime Geral de Previdência Social/SPPS/M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pt-BR" sz="3200" spc="-1" strike="noStrike" u="sng">
                <a:solidFill>
                  <a:srgbClr val="9454c3"/>
                </a:solidFill>
                <a:uFillTx/>
                <a:latin typeface="Calibri"/>
                <a:hlinkClick r:id="rId1"/>
              </a:rPr>
              <a:t>emanuel.dantas@previdencia.gov.b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one: (61) 2021-52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6-11-07T18:06:02Z</cp:lastPrinted>
  <dcterms:modified xsi:type="dcterms:W3CDTF">2017-02-14T13:17:09Z</dcterms:modified>
  <cp:revision>352</cp:revision>
  <dc:subject/>
  <dc:title>Demografia</dc:title>
</cp:coreProperties>
</file>